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15D-B35A-4D0F-9B7F-A7C23032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24B-F180-4B92-8757-DE89A424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77D-42E4-4198-A0D7-9FDDB71D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E1B-1765-4246-B8D4-6E65C95B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5D5C-D276-4819-B2D6-B2DEDE02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F4D1-8BE9-4D4F-8D0E-AD9C670D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208E-1E78-4873-82E2-A8558C59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5041-D420-4754-B3B5-4F1CA65E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D5A8-BC0F-43B2-9687-33F37201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7CE4-0BDA-4795-93BB-5EE36A9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506D-6CCB-46C9-A894-964C23FC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42E-8ECB-4DD7-B1B3-64455097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DEA8-C329-4518-A49D-F27E31D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81E5-088E-494B-9B6F-C90C0BD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82D7-F581-4CEB-8D92-24D7CBB9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FBD9-6AF8-4E29-9C5A-E9CE2FE3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09A8-DBC3-42D4-B262-6DED8551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E75-CCAD-4958-99C2-39CF0A39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A2B-9207-4146-B9AC-F62EACF2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E56-56D0-4C27-837B-547C0FF2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429-BE76-40D7-930B-455E6409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DBF-803E-4A30-8A3A-F3065C1B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0D0-75A8-4CA5-986B-21C983D7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26F-0E08-4C8B-BE25-5AEE816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EF0-02D0-486E-A0F9-9A8C2AAC06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41E9-96DF-4A1A-928E-AA9181DD22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УПРАВЉАЊ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ТРОШКОВ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штина ТСМ присту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прављања трошкови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ално извршење обавеза уз ниске трошко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ок квалитет производа/услуг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јкраће могуће вр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Управљање трошковим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је осмишљења стратегија праћења, анализе и контроле трошкова у једној организациј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сплицит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мплицитни (опортунитет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абил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еконтрабил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роч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угороч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рект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ндирект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0" name="image1.png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времени приступ управљању трошкови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С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ступ (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Total Cost Management Approa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ли тотално управљање  трошков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дан је тоталном управљању квалитетом (TQ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OTAL подразумева примену ТСМ програма у целом предузећу и на све запосле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ум тражи на нивоу предузећа, а не на нивоу појединих организационих де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оручуј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дел 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'3Т – 3С – 3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' за ефикасну примену ТСМ приступ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прављања трошков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6" name="image2.png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ално управљање трошковима се постиже преко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ри компонен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зв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op Managemen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ухвата оцену садашњег окружења, садашњег функционисања, пословне филозофије и организационе структуре предузећа, а затим, делегирање задатака средњем менаџм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imely Reward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ухвата правовремени наградни систем у циљу афирмације иновација, креативности, организационе културе темељене на ТСМ присту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echnolog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тиче на конкурентску способност предузе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ошкови) су условљени су тзв. </a:t>
            </a:r>
            <a:r>
              <a:rPr b="0" lang="sr-RS" sz="2200" spc="-1" strike="noStrike">
                <a:solidFill>
                  <a:srgbClr val="0000ff"/>
                </a:solidFill>
                <a:latin typeface="Arial"/>
              </a:rPr>
              <a:t>3С компонентам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mit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СМ захтева од свих запослених управљање обавезама: контрола пословања, перманентно образовање, стимулативно награђивање, што води непрекидном снижењу трошкова. У основи је превентивна контрола – спречавање настајања непотребних трошк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tinuous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дстиче иновације за смањење трошкова и организациону културу која вреднује снижење трошк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ul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вај приступ подстиче стварање друштвене и организационе културе која непрекидно снижава трошкове, побољшава квалитет производа и време производње и дистрибу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3М компонен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ухвата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Missio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ТСМ приступ укључује мисију и дугорочне циљеве предузећ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Monitor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е састоји од самоконтроле и контроле једнаких. Сваки запослени врши самоконтролу  упоређивањем остварених са предвиђеним трошковима, а контрола једнаких подразумева да запослени контролишу  претходног  запосленог, чиме се учињена грешка благовремено отклања, и спречава ''зидање'' трошк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Mechanism of Change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технолошке и организационе промене су веома утицајан фактор на примену ТСМ. У ту сврху се отклањају статусне разлике, на пример, једнаке радне унифор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00:30:35Z</dcterms:modified>
  <cp:revision>170</cp:revision>
  <dc:subject/>
  <dc:title>Soft and Hard Skills Development: A Current Situation in Serbian Companies</dc:title>
</cp:coreProperties>
</file>